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73E17-B3B7-4765-89FA-738E72802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42FB2-B55D-4552-956F-301007B3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7255D-C3C7-4E7B-B5F1-B6C535BE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2A7EC-974A-4969-9B86-1640B92F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130E6-8344-401F-AB95-4C31A31A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39DBE-645B-450C-BDFF-28CD712E0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A1372-E283-4FC5-B436-87BEC6E5B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9A603-2B4F-4FED-95EE-818062D1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9A325-3E21-4B44-ABC3-E5D6C99B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Exercise 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2A342-2345-40AF-9487-DF8EAB6D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0F5F8-1F97-44ED-B986-FDAFA1DB5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CAAC8-CE4A-472D-BA36-82928D48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1FB87-79D0-4CDE-A00B-1CE7151EA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7ED72-BA5C-46F3-BA1B-9002E415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2B79C-1F60-4951-8E1A-E527EE46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D3BBA-6340-4D5E-9782-2348AA12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9F49F-F6D5-4C7B-A0A4-12B87CF9454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E807E-CF01-4A37-BDD7-F0EFAE2FFC43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9441D-B60C-411E-AFBB-6AACE1D7B0D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971B7-6B8F-4B41-B102-49BE0EFA1E56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26A71-5737-4655-A9DE-88EC5E7B8B78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D96BC-FC17-4BC0-8C68-A5474F759436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A872-9A14-47ED-832A-FD09C27F69A4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C2EC4-D4CB-47B5-A8CD-6DA5EFB5FBA5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7028E-07AE-46F4-9709-2171DF8BD754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5360" y="1368360"/>
            <a:ext cx="43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how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C7D91-2DFF-4339-8783-BCC0FDB50DD0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8C09A-CC75-4E65-B061-C8F0E4DCE0E2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Testing a Cl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98400" y="2709720"/>
            <a:ext cx="547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9.2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Tests About a Population Propor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 continu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f couples really have no directional preference when kissing, there is a 0.00008 probability of observing at least 83 of 124 couples kissing the right way by chance alone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457200" y="8208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o perform a significance test, we state hypotheses, check conditions, calculate a test statistic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, and draw a conclusion in the context of the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four-step process is ideal for organizing our 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601560" y="278280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gnificance Tests: A Four-Step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601560" y="3157560"/>
            <a:ext cx="7790040" cy="311040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ate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ypothese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 you want to test, and at wh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gnificance level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? Define any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ameter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 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hoose the appropriate inferenc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Check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the conditions are met, perform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lculation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pute the 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st statistic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ind the </a:t>
            </a:r>
            <a:r>
              <a:rPr b="1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value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clude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ake a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ecision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bout the hypotheses in the context of the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13"/>
          <p:cNvGrpSpPr/>
          <p:nvPr/>
        </p:nvGrpSpPr>
        <p:grpSpPr>
          <a:xfrm>
            <a:off x="457200" y="1308240"/>
            <a:ext cx="8045280" cy="1422360"/>
            <a:chOff x="457200" y="1308240"/>
            <a:chExt cx="8045280" cy="1422360"/>
          </a:xfrm>
        </p:grpSpPr>
        <p:sp>
          <p:nvSpPr>
            <p:cNvPr id="586" name="Rectangle 11"/>
            <p:cNvSpPr/>
            <p:nvPr/>
          </p:nvSpPr>
          <p:spPr>
            <a:xfrm>
              <a:off x="457200" y="1308240"/>
              <a:ext cx="80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 Neue"/>
                </a:rPr>
                <a:t>When the conditions are met—Random, 10%, and Large Count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Object 2"/>
                <p:cNvSpPr txBox="1"/>
                <p:nvPr/>
              </p:nvSpPr>
              <p:spPr>
                <a:xfrm>
                  <a:off x="545400" y="1778040"/>
                  <a:ext cx="73418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sampling distribution of   {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  is approximately Normal with mean </m:t>
                          </m:r>
                        </m:e>
                      </m:eqAr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 and standard deviation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8" name="Rectangle 11"/>
          <p:cNvSpPr/>
          <p:nvPr/>
        </p:nvSpPr>
        <p:spPr>
          <a:xfrm>
            <a:off x="546120" y="3276720"/>
            <a:ext cx="8045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istic has approximately the standard Normal distribution whe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s therefore come from the standard Norm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601560" y="105876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ne Sampl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Test for a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0"/>
          <p:cNvSpPr/>
          <p:nvPr/>
        </p:nvSpPr>
        <p:spPr>
          <a:xfrm>
            <a:off x="601560" y="1430280"/>
            <a:ext cx="7790040" cy="357264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SR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 large population that contains an unknown propor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successes. To test th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alue by calculating the probability of gett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tatistic this large or larger in the direction specified by the alternativ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"/>
              <p:cNvSpPr txBox="1"/>
              <p:nvPr/>
            </p:nvSpPr>
            <p:spPr>
              <a:xfrm>
                <a:off x="3471840" y="2392200"/>
                <a:ext cx="194940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93" name="Picture 13" descr="Screen shot 2010-11-20 at 7.19.39 PM.png"/>
          <p:cNvPicPr/>
          <p:nvPr/>
        </p:nvPicPr>
        <p:blipFill>
          <a:blip r:embed="rId1"/>
          <a:stretch/>
        </p:blipFill>
        <p:spPr>
          <a:xfrm>
            <a:off x="601560" y="4621320"/>
            <a:ext cx="7790040" cy="163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wo-Sided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457200" y="954000"/>
            <a:ext cx="79153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n a one-sided test is the area in one tail of a standard Normal distribution—the tail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a two-sided test, the alternative hypothesis has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n such a test is the probability of getting a sample proportion as far as or farther from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in either direction than the observed value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at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s a result, you have to find the area in both tails of a standard Normal distribution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ple – calculating one sample z prop. 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ogether we will look at pg. 557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potato two potato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e will read the problem step by step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n re-do it on the graphing calculator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Key phrase – from the a.p. exam tip.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 handout with the practice problem still up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ple – two sided significance te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-book page 562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anks to Mr. Spr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sided: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aying that you think the true mean or proportion is greater or less than the claim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wo sided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aying that you think the true mean or proportion is different than the claim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Confidence Intervals Give 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53960" y="954000"/>
            <a:ext cx="82328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result of a significance test is basically a decision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r fail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When we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we’re left wondering what the actual proportio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ight be. A confidence interval might shed some light on this iss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0840" y="2303640"/>
            <a:ext cx="82324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aeyeon found that 90 of an SRS of 150 students said that they had never smoked a cigarette. The number of successes and the number of failures in the sample are 90 and 60, respectively, so we can proceed with 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18"/>
          <p:cNvGrpSpPr/>
          <p:nvPr/>
        </p:nvGrpSpPr>
        <p:grpSpPr>
          <a:xfrm>
            <a:off x="312840" y="3751200"/>
            <a:ext cx="8373960" cy="2533320"/>
            <a:chOff x="312840" y="3751200"/>
            <a:chExt cx="8373960" cy="2533320"/>
          </a:xfrm>
        </p:grpSpPr>
        <p:sp>
          <p:nvSpPr>
            <p:cNvPr id="608" name="Rectangle 17"/>
            <p:cNvSpPr/>
            <p:nvPr/>
          </p:nvSpPr>
          <p:spPr>
            <a:xfrm>
              <a:off x="312840" y="3751200"/>
              <a:ext cx="8373960" cy="2533320"/>
            </a:xfrm>
            <a:prstGeom prst="rect">
              <a:avLst/>
            </a:prstGeom>
            <a:gradFill rotWithShape="0">
              <a:gsLst>
                <a:gs pos="0">
                  <a:srgbClr val="dfecff"/>
                </a:gs>
                <a:gs pos="100000">
                  <a:srgbClr val="8fbcff"/>
                </a:gs>
              </a:gsLst>
              <a:lin ang="5400000"/>
            </a:gradFill>
            <a:ln w="9360">
              <a:solidFill>
                <a:srgbClr val="247cd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 Neue"/>
                </a:rPr>
                <a:t>Our 95% confidence interval i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 Neue"/>
                </a:rPr>
                <a:t>We are 95% confident that the interval from 0.522 to 0.678 captures the true proportion of students at Taeyeon’s high school who would say that they have never smoked a cigarett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2"/>
                <p:cNvSpPr txBox="1"/>
                <p:nvPr/>
              </p:nvSpPr>
              <p:spPr>
                <a:xfrm>
                  <a:off x="420840" y="4417920"/>
                  <a:ext cx="81057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z</m:t>
                      </m:r>
                      <m:r>
                        <m:t xml:space="preserve">∗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8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22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8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6400" y="18144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E and CHECK the Random, 10%, and Large Counts conditions for performing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ERFORM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TERPRET the power of a test and DESCRIBE what factors affect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relationship among the probability of a Type I error (significance level), the probability of a Type II error, and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s About a Population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Benford’s law and frau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roblem: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Find and interpret a confidence interval for the proportion of all expenses that begin with the digit 1 for the company in the previous Alternate Example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b) Does your interval from part (a) lead to the same conclusion as the significance test?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(a) State: We want to estimate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= the proportion of all expenses that begin with the digit 1 for this company at the 95% confidence level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Plan: We will use a one-sample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z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interval for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if the following conditions are satisfie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Random: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A random sample of expenses was selected. 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10%: It is reasonable to assume that there are more than 10(300) = 3000 expenses in this company’s financial records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Large Counts: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68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10 and  232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10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Do: 1 – prop z –interval : (0.17929, 0.27404)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Conclude: We are 95% confident that the interval from 0.17929 to 0.27404 captures the proportion of all expenses at this company that begin with the digit 1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(b) Yes.  Because 0.301 is not in the interval, it is not a plausible value for the true proportion of expenses that begin with the digit 1. Thus, this company should be investigated for fraud. 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Confidence Intervals Give 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460440" y="880920"/>
            <a:ext cx="82296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re is a link between confidence intervals and two-sided t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95% confidence interval gives an approximate range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Helvetica Neu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 that would not be rejected by a two-sided test at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05 significance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816120" y="3289320"/>
            <a:ext cx="7524720" cy="161856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e81f3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two-sided test at significance level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(say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05) and a 100(1 –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)% confidence interval (a 95% confidence interval i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 = 0.05) give similar information about the population      para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457200" y="760320"/>
            <a:ext cx="8229600" cy="41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 significance test makes a Type II error when it fails to reject a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that really is fal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re are many values of the parameter that make the alternativ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true, so we concentrate on on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probability of making a Type II error depends on several factors, including the actual value of the parameter. A high probability of Type II error for a specific alternative parameter value means that the test is not sensitive enough to usually detect that altern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457200" y="4896000"/>
            <a:ext cx="8085240" cy="1050480"/>
          </a:xfrm>
          <a:prstGeom prst="rect">
            <a:avLst/>
          </a:prstGeom>
          <a:solidFill>
            <a:srgbClr val="d7e9cb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f a test against a specific alternative is the probability that the test will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a chosen significance level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when the specified alternative value of the parameter is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457200" y="76032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potato-chip producer wonders whether the significance tes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08 versu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gt; 0.08 based on a random sample of 500 potatoes has enough power to detect a shipment with, say, 11% blemished potatoes. In this case, a particular Type II error is to fail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08 whe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3" descr="Screen shot 2010-11-14 at 7.58.32 PM.png"/>
          <p:cNvPicPr/>
          <p:nvPr/>
        </p:nvPicPr>
        <p:blipFill>
          <a:blip r:embed="rId1"/>
          <a:srcRect l="0" t="0" r="0" b="50696"/>
          <a:stretch/>
        </p:blipFill>
        <p:spPr>
          <a:xfrm>
            <a:off x="620640" y="2709720"/>
            <a:ext cx="7515360" cy="35337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5788080" y="3679920"/>
            <a:ext cx="3136680" cy="227016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arlier, we decided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= 0.05 if our sample yielded a sample proportion to the right of the green 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Screen shot 2010-11-14 at 7.58.32 PM.png"/>
          <p:cNvPicPr/>
          <p:nvPr/>
        </p:nvPicPr>
        <p:blipFill>
          <a:blip r:embed="rId2"/>
          <a:srcRect l="0" t="49341" r="0" b="0"/>
          <a:stretch/>
        </p:blipFill>
        <p:spPr>
          <a:xfrm>
            <a:off x="620640" y="2709720"/>
            <a:ext cx="7515360" cy="36306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304920" y="2709720"/>
            <a:ext cx="2262240" cy="39888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i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0.1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4424400" y="5384880"/>
            <a:ext cx="4719600" cy="135540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we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= 0.05 if our sample yields a proportion &gt; 0.0999, we</a:t>
            </a:r>
            <a:r>
              <a:rPr b="0" lang="ja-JP" sz="2000" spc="-1" strike="noStrike">
                <a:solidFill>
                  <a:srgbClr val="000000"/>
                </a:solidFill>
                <a:latin typeface="Helvetica Neu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 correctly reject the shipment about 75% of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457200" y="826920"/>
            <a:ext cx="837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gnificance level of a test is the probability of reach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when the null hypothesis 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 of a test to detect a specific alternative is the probability of reach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when that alternative 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just as easily describe the test by giving the probability of making a Type II error (sometime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601560" y="389088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wer and Type II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601560" y="4265640"/>
            <a:ext cx="7790040" cy="100872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power of a test against any alternative is 1 minus the probability of a Type II error for that alternative; that 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ower = 1 −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56840" y="1725120"/>
            <a:ext cx="83962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E and CHECK the Random, 10%, and Large Counts conditions for performing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ERFORM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TERPRET the power of a test and DESCRIBE what factors affect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relationship among the probability of a Type I error (significance level), the probability of a Type II error, and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s About a Population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9684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Recall our basketball player who claimed to be an 80% free-throw shooter.  In an SRS of 50 free-throws, he made 32.  His sample proportion of made shots, 32/50 = 0.64, is much lower than what he claimed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oes it provid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convinc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evidence against his claim?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646200" y="3598920"/>
            <a:ext cx="76546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o find out, we must perform a significance te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0.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&lt; 0.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the actual proportion of free throws the shooter makes in the long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9684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Chapter 8, we introduced three conditions that should be met before we construct a confidence interval for an unknown population proportion: Random, 10% when sampling without replacement, and Large Counts. These same three conditions must be verified before carrying out a significance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601560" y="278280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 For Performing A Significance Test About A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601560" y="3157560"/>
            <a:ext cx="8085240" cy="196488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The data come from a well-designed random sample or randomiz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: When sampling without replacement, check that n ≤ (1/10)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Large Count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Both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n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1 −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) are at least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457200" y="820800"/>
            <a:ext cx="7915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f 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80 is true, then the player’s sample proportion of made free throws in an SRS of 50 shots would vary according to an approximately Normal sampling distribution with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557280" y="2035080"/>
                <a:ext cx="8129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 and standard deviation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6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2" name="Picture 8" descr="Screen shot 2010-11-20 at 6.50.54 PM.png"/>
          <p:cNvPicPr/>
          <p:nvPr/>
        </p:nvPicPr>
        <p:blipFill>
          <a:blip r:embed="rId1"/>
          <a:stretch/>
        </p:blipFill>
        <p:spPr>
          <a:xfrm>
            <a:off x="2516040" y="2833560"/>
            <a:ext cx="412776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4"/>
          <p:cNvSpPr/>
          <p:nvPr/>
        </p:nvSpPr>
        <p:spPr>
          <a:xfrm>
            <a:off x="457200" y="820800"/>
            <a:ext cx="7915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significance test uses sample data to measure the strength of evidence agains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Here are some principles that apply to most t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test compares a statistic calculated from sample data with the value of the parameter stated by the null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Values of the statistic far from the null parameter value in the direction specified by the alternative hypothesis give evidence agains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671400" y="4230720"/>
            <a:ext cx="7915320" cy="1965240"/>
            <a:chOff x="671400" y="4230720"/>
            <a:chExt cx="7915320" cy="1965240"/>
          </a:xfrm>
        </p:grpSpPr>
        <p:sp>
          <p:nvSpPr>
            <p:cNvPr id="566" name="TextBox 6"/>
            <p:cNvSpPr/>
            <p:nvPr/>
          </p:nvSpPr>
          <p:spPr>
            <a:xfrm>
              <a:off x="671400" y="4230720"/>
              <a:ext cx="7915320" cy="1965240"/>
            </a:xfrm>
            <a:prstGeom prst="rect">
              <a:avLst/>
            </a:prstGeom>
            <a:solidFill>
              <a:srgbClr val="d7e9cb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st statistic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asures how far a sample statistic diverges from what we would expect if the null hypothes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were true, in standardized units. That i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Object 3"/>
                <p:cNvSpPr txBox="1"/>
                <p:nvPr/>
              </p:nvSpPr>
              <p:spPr>
                <a:xfrm>
                  <a:off x="2090880" y="5342760"/>
                  <a:ext cx="52894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est statistic =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tistic - paramet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tandard deviation of statistic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457200" y="820800"/>
            <a:ext cx="791532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test statistic says how far the sample result is from the null parameter value, and in what direction, on a standardized scale. You can use the test statistic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of th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our free-throw shooter example, the sample proportion 0.64 is pretty far below the hypothesized valu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8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ndardizing, we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1528920" y="3844800"/>
                <a:ext cx="60325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st statistic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tatistic - paramet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andard deviation of statisti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6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4145040" y="820800"/>
            <a:ext cx="422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shaded area under the curve in (a) shows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. (b) shows the corresponding area on the standard Normal curve, which displays the distribu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est stat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ing Table A, we find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z ≤ – 2.83) = 0.00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Screen Shot 2014-02-04 at 5.59.45 PM.png"/>
          <p:cNvPicPr/>
          <p:nvPr/>
        </p:nvPicPr>
        <p:blipFill>
          <a:blip r:embed="rId1"/>
          <a:srcRect l="0" t="0" r="49102" b="0"/>
          <a:stretch/>
        </p:blipFill>
        <p:spPr>
          <a:xfrm>
            <a:off x="457200" y="820800"/>
            <a:ext cx="3483000" cy="2746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Screen Shot 2014-02-04 at 5.59.45 PM.png"/>
          <p:cNvPicPr/>
          <p:nvPr/>
        </p:nvPicPr>
        <p:blipFill>
          <a:blip r:embed="rId2"/>
          <a:srcRect l="50901" t="0" r="0" b="0"/>
          <a:stretch/>
        </p:blipFill>
        <p:spPr>
          <a:xfrm>
            <a:off x="457200" y="3481560"/>
            <a:ext cx="3483000" cy="28461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0"/>
          <p:cNvSpPr/>
          <p:nvPr/>
        </p:nvSpPr>
        <p:spPr>
          <a:xfrm>
            <a:off x="4145040" y="4414680"/>
            <a:ext cx="45417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o i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rue, and the player makes 80% of his free throws in the long run, there’s only about a  2-in-1000 chance that the player would make as few as 32 of 50 sh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In a random sample of 124 couples, 83 were observed tilting to the right when kissing.  It was hypothesized that proportion of people who kiss leaning to the right i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elvetica Neue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5. It is believed that more people kiss leaning to the right than to the left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Calculate the test statistic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b) Find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-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value using Table A or technology.  Show this result as an area under a standard Normal curve.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Because the hypothesized value is = 0.5 and  = 83/124 = 0.669, the standardized test statistic is z = (0.669 – 0.5)/0.0449 = 3.76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Using technology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The command normalcdf(lower:3.76, upper:1000, :0, :1) gives a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of 0.0001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admin</cp:lastModifiedBy>
  <cp:lastPrinted>2017-03-02T17:57:42Z</cp:lastPrinted>
  <dcterms:modified xsi:type="dcterms:W3CDTF">2017-03-02T18:35:17Z</dcterms:modified>
  <cp:revision>234</cp:revision>
  <dc:subject/>
  <dc:title>Slide 1</dc:title>
</cp:coreProperties>
</file>